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67E-6A64-4ED2-9B8C-BE10B6E1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95C1-03F3-4A50-9FBD-B7187F5F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141A-8406-43C6-A2D2-19E3E483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BEF-F412-433D-B8D0-A78A6D75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AE0C-C94C-41FC-AC8E-34BECB47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83C-98FE-4BAF-B13D-F6DAAFE6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533-6B9C-4949-91DF-9C471E52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955-DAB3-4540-80E9-95F50B23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443-3C49-45AA-9402-1FB820B9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04F-0B15-4700-A060-10526AAB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824-BA41-4359-88D1-885AB12B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5AA-AAF7-45BB-B80D-2E513928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3B30-5E79-498A-A629-8E2C50EDC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55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 sa zídeme tam spol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i sa zídeme tam spol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Pána miesto chystá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, kde nieto strastí, bôľ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zdroj kde blaha je on sám?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Áno, tam, áno, t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ídeme sa spolu zas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ríši svetla, nebies 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am pred tvárou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u raz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Či pred trónom Baránkový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raz sa všetci stretn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de ho chválospevom nov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polu slávi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bude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Áno, tam, áno, t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ídeme sa spolu zas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ríši svetla, nebies 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am pred tvárou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u raz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i to mesto uvidí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ktorom vládne láska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či nás Pán všetkých pri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onen slávny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ý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?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Áno, tam, áno, t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ídeme sa spolu zas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ríši svetla, nebies 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am pred tvárou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u raz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4:59:48Z</dcterms:modified>
  <cp:revision>21</cp:revision>
  <dc:subject/>
  <dc:title>Je veľký náš Pán, on slávy je Kráľ Nech do všetkých strán  spev vrúcnych znie chvál.</dc:title>
</cp:coreProperties>
</file>